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5F3-9152-4CA6-A2CE-63A81C46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49A-4C22-4347-A447-B63FCA52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079-47D8-4592-914B-5BD12BC3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D02-96C4-4522-B58E-AEA4B42A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3EA-BB45-402B-B019-D9C0FCFA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927-0E46-4B49-ABD2-DD0C162C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968-DBF6-4FC1-AE28-7B2F8774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F60-74EB-4CC2-9B68-F8BEB76A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F03-21E7-4FB8-A026-91BDCF35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08D-7E55-4765-84BF-7E505BD9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91E-253E-4B05-B194-66BB7042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1E3-EF08-4388-BA5B-A994F6CD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B3BE-CC4B-4018-A919-7C7B8F2C3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632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 Clase 8NV</a:t>
            </a:r>
            <a:br>
              <a:rPr sz="40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a fecha es el 16 de diciembre del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va tu españ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te lla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años t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do es tu cumpleañ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n qué escuela estudi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es tu asignatura favori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 gusta hacer en tu tiempo libre? (3 activ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477800" cy="221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038480" y="2133720"/>
            <a:ext cx="2971800" cy="19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971800" y="304920"/>
            <a:ext cx="1822320" cy="182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905120" y="3124080"/>
            <a:ext cx="2305080" cy="190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143000" y="2209680"/>
            <a:ext cx="1825560" cy="1462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934320" y="2895480"/>
            <a:ext cx="1542960" cy="186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886200" y="4572000"/>
            <a:ext cx="2743200" cy="182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6172200" y="4572000"/>
            <a:ext cx="2332080" cy="186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773840" y="396252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63400" y="25146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640" y="144792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6960" y="335268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8480" y="3962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4440" y="17524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4800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73480" y="7621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atch a drawing to the sentence that describes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bailamos mucho.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cantas en el café.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estudio español.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ted viaja a Guatemala.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escuchas la música.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tedes trabajan mucho.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deseo una limonada.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as hablamos por teléfono. 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0" y="2590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7480" y="3124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7160" y="36576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3280" y="42670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8200" y="4876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5040" y="54100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50480" y="60958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914400" y="17928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4880" y="190512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240" y="76320"/>
            <a:ext cx="83818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l in each blank with the correct form of the verb in paren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Querida A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¡Me gusta México! Yo (1) __________ (practicar) español con Octavio todos los días. Octavio y yo vamos a los cafés. Octavio no habla con el camarero. ¡Yo (2) __________ (hablar) con el camarero! Octavio y yo (3) __________ (tomar) dos limonadas. En el café, los camareros cantan. Ellos bailan también. Octavio y yo (4) ________________ (escuchar). ¿Y tú, Ana? Tú (5) _________ (estudiar mucho), ¿verdad? ¡Pobrecit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Un abraz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an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1720" y="15238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ra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22800" y="27432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hab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5840" y="358128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omam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6480" y="44197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scucham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65400" y="495288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stud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reviewing proposito #23 &amp; 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hand it in at end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Quiz on Monday –Ar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74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59:58Z</dcterms:created>
  <dc:creator>Helen Zumaeta</dc:creator>
  <dc:description/>
  <dc:language>en-US</dc:language>
  <cp:lastModifiedBy>NYCDOE</cp:lastModifiedBy>
  <dcterms:modified xsi:type="dcterms:W3CDTF">2011-12-16T17:14:18Z</dcterms:modified>
  <cp:revision>6</cp:revision>
  <dc:subject/>
  <dc:title>Me llamo _________ Clase 10NM La fecha es el 26 de octubre del 2011</dc:title>
</cp:coreProperties>
</file>